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936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936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CB27FA5-EB58-49EB-A952-06EE231F154C}" type="datetime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-1800" y="93092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3885840" y="93092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A4441A-32BB-444B-8063-F3BCFE71591D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914400" y="464616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body"/>
          </p:nvPr>
        </p:nvSpPr>
        <p:spPr>
          <a:xfrm>
            <a:off x="912960" y="4646160"/>
            <a:ext cx="5030640" cy="4118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nvestment risk is offset by ‘price risk’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ation of bonds = maturity of   fixed (one off)  liability pa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“one off” liability payment in 10 years then “maturity” = “dura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ldImg"/>
          </p:nvPr>
        </p:nvSpPr>
        <p:spPr>
          <a:xfrm>
            <a:off x="1149480" y="85572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body"/>
          </p:nvPr>
        </p:nvSpPr>
        <p:spPr>
          <a:xfrm>
            <a:off x="912960" y="4646160"/>
            <a:ext cx="5030640" cy="4118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nvestment risk is offset by ‘price risk’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ation of bonds = maturity of   fixed (one off)  liability pa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“one off” liability payment in 10 years then “maturity” = “dura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sldImg"/>
          </p:nvPr>
        </p:nvSpPr>
        <p:spPr>
          <a:xfrm>
            <a:off x="1149480" y="85572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133E-45C5-40EF-BA09-19FB4D93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87156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2360" y="4052880"/>
            <a:ext cx="87156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74A7-9561-4E2F-A6B5-9659E2D70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2360" y="405288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405288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4D83-B2A3-4A35-A04D-67107257E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9320" y="137124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6280" y="137124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2360" y="405288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9320" y="405288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6280" y="405288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832B-069A-4878-A86B-7D5743305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ABDDC-251D-48E9-8FF4-4E9C22966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2360" y="1371240"/>
            <a:ext cx="87156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F7EDF-EB05-4E56-8F1E-4C39DBBBE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871560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8A211-CCB7-413B-B86F-35D1F57BF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1B1C-05E8-47BF-B79F-1F32568A0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ECDA2-B68E-439F-8311-7CFF548EC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92240" y="177480"/>
            <a:ext cx="805176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41BF5-8CE7-4ED6-852C-BAF4FDC43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2360" y="405288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8212E-6F34-411C-8668-CAC1D748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2360" y="1371240"/>
            <a:ext cx="87156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64FB-F03A-4504-971F-28257738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8520" y="405288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B9FAE-4757-491C-9C57-ACD12359D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2360" y="4052880"/>
            <a:ext cx="87156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9090F-1C58-429E-8F9A-A9D33612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87156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2360" y="4052880"/>
            <a:ext cx="87156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26283-7B10-4F8B-AAA1-CECF59B1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2360" y="405288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8520" y="405288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7204-D2AC-4181-A68C-CE4F910BD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9320" y="137124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6280" y="137124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2360" y="405288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9320" y="405288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6280" y="405288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63826-82EF-417C-915D-4CC175E3B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871560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7EE2-E974-4FE1-ABFD-F037A449E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5390-51C1-4277-A05C-315FDA6D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5CF1-EF16-4C36-9CC2-75777EE0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92240" y="177480"/>
            <a:ext cx="805176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49C1-FAC4-44C9-A43F-A85749B0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2360" y="405288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69DB-0706-4FEB-A9B6-8EB1A367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405288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BAAC-68BD-4CED-82AC-6D0B7D875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2360" y="4052880"/>
            <a:ext cx="87156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EDF4-98BF-4293-97CC-7F84F49C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759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97180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pyright K. Cuthbertson and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E89088F-040C-425F-9EE5-3866AFA8F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252360" y="1371240"/>
            <a:ext cx="871560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3" marL="1562040" indent="-22860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4" marL="1981080" indent="-228600">
              <a:spcBef>
                <a:spcPts val="700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229EFA4-BD11-451E-8B8B-F58CBBF788A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07D6216-1ACA-4F14-8F8F-43A6B63C8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711360" y="2311200"/>
            <a:ext cx="7721280" cy="1091880"/>
          </a:xfrm>
          <a:prstGeom prst="rect">
            <a:avLst/>
          </a:prstGeom>
          <a:solidFill>
            <a:srgbClr val="3333cc"/>
          </a:solidFill>
          <a:ln w="507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2" marL="914400" algn="ctr">
              <a:spcBef>
                <a:spcPts val="700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3" marL="1333440" algn="ctr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4" marL="1752480" algn="ctr">
              <a:spcBef>
                <a:spcPts val="700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5" marL="17524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6" marL="17524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cture  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ey and Bond Market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914400" y="4572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1/9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D05-CE54-415D-8B59-D04987521596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F8BEA2-8AC1-4DD9-8466-96692628A7C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24560" cy="8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IELD (“ADD-ON”) INSTRUMENTS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: Certificate of deposit (CD)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448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(CD or Inter-bank Deposit)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 maturity of m-day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 Rounded MT Bold"/>
              </a:rPr>
              <a:t>quoted yield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 = y =12.5% p.a.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£100 deposited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CD Pays       £100 [ 1 +  (m / 365 ) ( y/100) ]</a:t>
            </a: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after m-day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13" name=""/>
          <p:cNvSpPr/>
          <p:nvPr/>
        </p:nvSpPr>
        <p:spPr>
          <a:xfrm>
            <a:off x="1227240" y="5567400"/>
            <a:ext cx="6753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30440" y="3936960"/>
            <a:ext cx="0" cy="1630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38240" y="5587920"/>
            <a:ext cx="1171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2" marL="380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785000" y="5610240"/>
            <a:ext cx="592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80920" y="3424320"/>
            <a:ext cx="1417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10080" y="31240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Book Antiqua"/>
              </a:rPr>
              <a:t>100[1+(m /365) (y/100)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594360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ime in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4120" y="3276720"/>
            <a:ext cx="0" cy="236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82960" y="5608800"/>
            <a:ext cx="177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/3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1628640" y="3200040"/>
            <a:ext cx="3705480" cy="757080"/>
          </a:xfrm>
          <a:prstGeom prst="line">
            <a:avLst/>
          </a:prstGeom>
          <a:ln w="5076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-228600" y="3240"/>
            <a:ext cx="838080" cy="6854760"/>
            <a:chOff x="-228600" y="3240"/>
            <a:chExt cx="838080" cy="6854760"/>
          </a:xfrm>
        </p:grpSpPr>
        <p:sp>
          <p:nvSpPr>
            <p:cNvPr id="424" name=""/>
            <p:cNvSpPr/>
            <p:nvPr/>
          </p:nvSpPr>
          <p:spPr>
            <a:xfrm>
              <a:off x="-228600" y="324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-169560" y="166680"/>
              <a:ext cx="117360" cy="6550200"/>
              <a:chOff x="-169560" y="166680"/>
              <a:chExt cx="117360" cy="6550200"/>
            </a:xfrm>
          </p:grpSpPr>
          <p:sp>
            <p:nvSpPr>
              <p:cNvPr id="426" name=""/>
              <p:cNvSpPr/>
              <p:nvPr/>
            </p:nvSpPr>
            <p:spPr>
              <a:xfrm>
                <a:off x="-169560" y="17575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-169560" y="1987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-169560" y="22147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-169560" y="24447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-169560" y="267516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-169560" y="29019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-169560" y="3132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-169560" y="336240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-169560" y="35895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-169560" y="3819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-169560" y="40496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-169560" y="42753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-169560" y="4505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-169560" y="47325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-169560" y="4962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-169560" y="51926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-169560" y="5419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-169560" y="56498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-169560" y="5880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-169560" y="61070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-169560" y="63374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-169560" y="65660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-169560" y="16668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-169560" y="3938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-169560" y="62388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-169560" y="8524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-169560" y="10796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-169560" y="130968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-169560" y="15400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5" name=""/>
          <p:cNvSpPr/>
          <p:nvPr/>
        </p:nvSpPr>
        <p:spPr>
          <a:xfrm>
            <a:off x="91440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8991D-816D-488F-9BEF-C07966E32B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6AFDD-243D-4E25-8A41-21C152EA9D5E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ISCOUNT INSTRUME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ample:  1-YR T-BILL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1-yr T-Bill with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Par (face or maturity) value FV = 100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Trading at a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 Rounded MT Bold"/>
              </a:rPr>
              <a:t>quoted discount rate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 d=10%, has a current market price of P: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59" name=""/>
          <p:cNvSpPr/>
          <p:nvPr/>
        </p:nvSpPr>
        <p:spPr>
          <a:xfrm>
            <a:off x="1600200" y="5562720"/>
            <a:ext cx="6380280" cy="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600200" y="426672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67280" y="4343400"/>
            <a:ext cx="17640" cy="122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1600200" y="3513240"/>
            <a:ext cx="4284720" cy="753840"/>
          </a:xfrm>
          <a:prstGeom prst="line">
            <a:avLst/>
          </a:prstGeom>
          <a:ln w="12600">
            <a:solidFill>
              <a:srgbClr val="ff00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19120" y="5587920"/>
            <a:ext cx="549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651640" y="5610240"/>
            <a:ext cx="591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04880" y="6019920"/>
            <a:ext cx="449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P  =  FV - D = 100 - 10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=£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8280" y="3078000"/>
            <a:ext cx="319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FV=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42040" y="5702400"/>
            <a:ext cx="169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4343400"/>
            <a:ext cx="434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587560" y="3733920"/>
            <a:ext cx="36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 = FV (d / 100) =£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4302000"/>
            <a:ext cx="2438280" cy="7934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Book Antiqua"/>
              </a:rPr>
              <a:t>D = (sterling or dollar)dis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358128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7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7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4" name=""/>
          <p:cNvSpPr/>
          <p:nvPr/>
        </p:nvSpPr>
        <p:spPr>
          <a:xfrm>
            <a:off x="1219320" y="685800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4114800"/>
            <a:ext cx="3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P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5866920" y="4038120"/>
            <a:ext cx="68580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E4239-1B92-497A-9F46-D5259BCF6BDF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74658-CAD5-4C24-A487-F2F2CD0E8B7C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67052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Discount Instrument: Price of  US T-Bill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7824960" cy="56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V = $1000, 90 days to maturity, 1-year = 360 day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quoted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iscount rate  d = 8% p.a., FV=$1000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is the market price and the yield ?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-332640" algn="just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Dollar discount D :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 =   $1000 (8/100) (90/360)   =  $20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=   FV      [ (d / 100) ( m / a) ]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-332640" algn="just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Invoice price, P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 =  FV-D  =  $980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Yield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 = [(1000 - 980) /980 ] x 360/90 x 100% = 8.163%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1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1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9F28-78A5-4193-A234-19DF5CC71F9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ACA43-04E1-4238-A02C-3B33DD5954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Yield” on a  Discount Instrument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Quot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discount rat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is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not a correct measur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of the “return” (ev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if held to maturity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orrect measure is the “yield (to maturity)” and  is defined with respect to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purchase pric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. .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Note if you sel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prior to maturity you do not earn the yield to maturity-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nd the (holding period) return is risky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Quoted yield is: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     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y =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2666880" y="5181480"/>
                <a:ext cx="36576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year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4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5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0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77CE-F7D9-4A69-8809-FB1D06A5253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8313C1-DAD8-4177-B9F5-17173B751EB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290000" cy="5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ummary : Money Markets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Short term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 borrowing and lending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- used by Banks, FX-traders, Corporate Treasurer’s and    C.Bank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Quote conventions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 differ between markets and instrumen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-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LIBOR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  is a key reference rate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T-Bill, CD’s and Commercial Paper (in US) are highly liquid markets up to  3-6  months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8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1143000" y="64771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59D7-AC5F-4361-B1BE-E2AC98C3A19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5D70E6-9E9D-4D94-B9A0-8239F235602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939960" y="1447920"/>
            <a:ext cx="8051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ND MARKE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2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2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2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14400" y="4572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22411-1A31-4827-9245-367D13585A7B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1C046F-290C-4F18-8B2E-2E4B43ECD38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51824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S: Bond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3886200" cy="576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SURIES (T-Bonds/notes)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Zero Coupon Bond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Spot rate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upon Bonds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Yield to Maturity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pricing using spot 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ields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BOND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in Vanilla/Straight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ign = Yankee/Samurai/Bulldog/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adors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ible and Callable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bonds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800600" y="762120"/>
            <a:ext cx="3990960" cy="576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Bonds and Duration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SELF STUDY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Holding Period Return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Organisation of the UK Gilts Market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ccrued Interest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5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6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9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515-8710-4119-9B5E-C71B228889C8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586AF-42B7-466C-BAEA-8592789B286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51824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:  BOND MARKET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9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9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4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38080" y="1752480"/>
            <a:ext cx="83059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vestments:Spot and Derivative Market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Cuthbertson and D.Nitzsche</a:t>
            </a:r>
            <a:br>
              <a:rPr sz="2400"/>
            </a:br>
            <a:br>
              <a:rPr sz="2400"/>
            </a:b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hapter 7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7.1: Prices, Yields and Retur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7.3: Corporate Bonds</a:t>
            </a:r>
            <a:br>
              <a:rPr sz="2400"/>
            </a:br>
            <a:br>
              <a:rPr sz="2400"/>
            </a:b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hapter 9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9.1: Duration and Conv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A3F3-4E88-46E6-ADCD-8D02AE623FC9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C2CC7-D95F-4C34-B3DB-A5AB64E9821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ro Coupon Bonds: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t rates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pon Bonds: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ield to Maturity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ing using spot yields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2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3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DBA5-C27E-471C-9594-FFD79B028ECB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C15E19-4347-460D-8250-CA1186736D9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071720" y="3828960"/>
            <a:ext cx="6357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1143000" y="2300040"/>
            <a:ext cx="0" cy="152388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6705720" y="2361960"/>
            <a:ext cx="0" cy="146196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9720" y="1781280"/>
            <a:ext cx="52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43120" y="3933720"/>
            <a:ext cx="52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553080" y="685800"/>
            <a:ext cx="170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M=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553080" y="3929040"/>
            <a:ext cx="66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66680" y="4419720"/>
            <a:ext cx="731520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‘zero’ offers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ing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r ‘spot’) payment of $M in the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= time to maturity of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=100 = redemption /par/ maturity  value of  the 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fair price P for this ‘zero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1142640" y="914400"/>
            <a:ext cx="5575320" cy="13860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1143000" y="2300040"/>
            <a:ext cx="5562720" cy="75960"/>
          </a:xfrm>
          <a:prstGeom prst="line">
            <a:avLst/>
          </a:prstGeom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630480" y="1371600"/>
            <a:ext cx="1369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38080" y="1522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Zero Coupon / Pure Discount B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705720" y="914400"/>
            <a:ext cx="0" cy="14479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7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7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7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334280" y="3809880"/>
            <a:ext cx="127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C91E-0704-4CA6-833A-79F40838848B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712A62-A570-4907-8D6C-CD5E31D52CC9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8001000" cy="58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S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367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STRUMEN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HO PLAYS IN THE MONEY MARKE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YIELD OR ‘ADD ON’ INSTRUMENTS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LOANS , CDs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ISCOUNT INSTRUMEN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T-BILLS, COMMERCIAL BILLS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99072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FFF16-3557-4CB0-8B2B-ABD4FEF5CD1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76E699-C797-4CD2-8885-EBF200A011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92E23FA-23A4-4A49-849B-BD904DB0BD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297180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pyright K. Cuthbertson and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0" y="759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7720" y="255600"/>
            <a:ext cx="6248520" cy="44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ZERO’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219320" y="1166400"/>
            <a:ext cx="7215120" cy="54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ppose the current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quoted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arket yield on ‘n-year money’ is r =10% (at a compound rate)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r is known as a ‘spot rate’ of interest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n the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‘fair price’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for the zero is: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 = M / (1+r)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                 P = 100 / (1.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82.6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e that if you know P =82.64 then you can (if you wish) calculate r = 10%  using: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+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= ( M / P )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/n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1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1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7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071720" y="4500720"/>
            <a:ext cx="6357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066680" y="2209680"/>
            <a:ext cx="0" cy="228600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6705720" y="1599840"/>
            <a:ext cx="0" cy="289548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2046240" y="3857400"/>
            <a:ext cx="0" cy="61884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2938320" y="3890880"/>
            <a:ext cx="0" cy="61920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757680" y="3876480"/>
            <a:ext cx="0" cy="61884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4697280" y="3862440"/>
            <a:ext cx="0" cy="61920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5943600" y="3848040"/>
            <a:ext cx="0" cy="61920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33400" y="1828800"/>
            <a:ext cx="52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43120" y="4605480"/>
            <a:ext cx="52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450120" y="119052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557440" y="4572000"/>
            <a:ext cx="7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553080" y="4600440"/>
            <a:ext cx="66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513240" y="4586400"/>
            <a:ext cx="525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805040" y="4572000"/>
            <a:ext cx="622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6595920" y="3857400"/>
            <a:ext cx="0" cy="61884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703520" y="3429000"/>
            <a:ext cx="5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652840" y="3414600"/>
            <a:ext cx="54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94160" y="34480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6411240" y="3433680"/>
            <a:ext cx="54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762440" y="3691080"/>
            <a:ext cx="10717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066680" y="4979880"/>
            <a:ext cx="77724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= time to maturity of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= redemption/principal/par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market price                C = $ coupon on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38080" y="903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ain Vanilla: Coupon Paying B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7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7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4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DEE3-2591-4BAB-8D29-687C6A213C2B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7058CA-19F1-4805-91D2-FE97E4C6DCDB}" type="datetime1">
              <a:rPr lang="en-US"/>
              <a:t>07/28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990360" y="837720"/>
            <a:ext cx="760716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Rounded MT Bold"/>
              </a:rPr>
              <a:t>P =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require a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ingle(%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gure to ‘represent’ the  “return”, 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f bond is held to matur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  is the IRR of the bond and is known as YTM.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iven P, C,M and n then the FT calculates the YTM.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M=£100 in UK   and M=$1000 in US)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 P and y are inversely related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TM is ‘made up’ of  coupons+interest on coupons + capital gain to maturit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2101680" y="744480"/>
                <a:ext cx="63565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8" name=""/>
          <p:cNvSpPr/>
          <p:nvPr/>
        </p:nvSpPr>
        <p:spPr>
          <a:xfrm>
            <a:off x="838080" y="152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f you know the price, what is the YTM on a Bon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1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1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1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F499-77F0-4F20-BEB3-88DAF6F7B45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113859-CCAB-4D3D-AB71-F2415FDC66EB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762120" y="107964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Rounded MT Bold"/>
              </a:rPr>
              <a:t>P =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F.T.    y = </a:t>
            </a:r>
            <a:r>
              <a:rPr b="0" lang="en-GB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GB" sz="2800" spc="-1" strike="noStrike" u="sng">
                <a:solidFill>
                  <a:srgbClr val="fafd00"/>
                </a:solidFill>
                <a:uFillTx/>
                <a:latin typeface="Arial"/>
              </a:rPr>
              <a:t>Gross Redempti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yield”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F.T.    “Flat”, </a:t>
            </a: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GB" sz="2000" spc="-1" strike="noStrike" u="sng">
                <a:solidFill>
                  <a:srgbClr val="fafd00"/>
                </a:solidFill>
                <a:uFillTx/>
                <a:latin typeface="Arial"/>
              </a:rPr>
              <a:t>interest”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r “coupon”   yield= C/P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 u="sng">
                <a:solidFill>
                  <a:srgbClr val="fafd00"/>
                </a:solidFill>
                <a:uFillTx/>
                <a:latin typeface="Arial"/>
              </a:rPr>
              <a:t>Yield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 u="sng">
                <a:solidFill>
                  <a:srgbClr val="fafd00"/>
                </a:solidFill>
                <a:uFillTx/>
                <a:latin typeface="Arial"/>
              </a:rPr>
              <a:t>Int 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GB" sz="2000" spc="-1" strike="noStrike" u="sng">
                <a:solidFill>
                  <a:srgbClr val="fafd00"/>
                </a:solidFill>
                <a:uFillTx/>
                <a:latin typeface="Arial"/>
              </a:rPr>
              <a:t>Red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GB" sz="2000" spc="-1" strike="noStrike" u="sng">
                <a:solidFill>
                  <a:srgbClr val="fafd00"/>
                </a:solidFill>
                <a:uFillTx/>
                <a:latin typeface="Arial"/>
              </a:rPr>
              <a:t>Price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 FT    </a:t>
            </a: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“Treasury 10% ‘04”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8.97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.90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13.79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so called “Exchequer” ,  “Consols”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1706400" y="914400"/>
                <a:ext cx="720900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>
            <a:off x="83808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f you know the price, what is the YTM on a Bon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4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4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8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E2E6-1817-4221-BB81-19D58E17BCC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D9AB33-A149-4566-B71F-2D4E9804ACC2}" type="datetime1">
              <a:rPr lang="en-US"/>
              <a:t>07/28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1752480" y="6019920"/>
            <a:ext cx="678204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35160" y="-2057400"/>
            <a:ext cx="103622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24680" y="6033960"/>
            <a:ext cx="204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Y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914400" y="114300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590920" y="33526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410080" y="54100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752480" y="1905120"/>
            <a:ext cx="0" cy="4114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38480" y="4876920"/>
            <a:ext cx="0" cy="106668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367080" y="618660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890960" y="6186600"/>
            <a:ext cx="158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919160" y="618660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452680" y="283356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257800" y="480060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 and YTM are inversely related (“convex”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4" name=""/>
          <p:cNvSpPr/>
          <p:nvPr/>
        </p:nvSpPr>
        <p:spPr>
          <a:xfrm>
            <a:off x="3886200" y="426708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1599840" y="5410080"/>
            <a:ext cx="152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1599840" y="4800600"/>
            <a:ext cx="152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1599840" y="3352680"/>
            <a:ext cx="152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5800" y="4419720"/>
            <a:ext cx="83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5800" y="3048120"/>
            <a:ext cx="83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62120" y="5105520"/>
            <a:ext cx="76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0" y="3240"/>
            <a:ext cx="838080" cy="6854760"/>
            <a:chOff x="0" y="3240"/>
            <a:chExt cx="838080" cy="6854760"/>
          </a:xfrm>
        </p:grpSpPr>
        <p:sp>
          <p:nvSpPr>
            <p:cNvPr id="1002" name=""/>
            <p:cNvSpPr/>
            <p:nvPr/>
          </p:nvSpPr>
          <p:spPr>
            <a:xfrm>
              <a:off x="0" y="324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58680" y="166680"/>
              <a:ext cx="117360" cy="6550200"/>
              <a:chOff x="58680" y="166680"/>
              <a:chExt cx="117360" cy="6550200"/>
            </a:xfrm>
          </p:grpSpPr>
          <p:sp>
            <p:nvSpPr>
              <p:cNvPr id="1004" name=""/>
              <p:cNvSpPr/>
              <p:nvPr/>
            </p:nvSpPr>
            <p:spPr>
              <a:xfrm>
                <a:off x="58680" y="17575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680" y="1987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680" y="22147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8680" y="24447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8680" y="267516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680" y="29019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8680" y="3132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8680" y="336240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8680" y="35895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8680" y="3819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8680" y="40496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8680" y="42753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8680" y="4505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8680" y="47325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8680" y="4962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8680" y="51926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8680" y="5419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8680" y="56498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8680" y="5880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8680" y="61070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8680" y="63374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8680" y="65660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8680" y="16668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8680" y="3938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8680" y="62388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8680" y="8524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8680" y="10796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8680" y="130968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680" y="15400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3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914400" y="6629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FB22-F71D-4948-B67D-69CBD79D23A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E334F-0ED0-4AC3-82FF-02ED5F7F72C5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90720" y="84240"/>
            <a:ext cx="7835760" cy="8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 - YIELD: Simplified Equation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6" name=""/>
          <p:cNvSpPr/>
          <p:nvPr/>
        </p:nvSpPr>
        <p:spPr>
          <a:xfrm>
            <a:off x="1066680" y="1066680"/>
            <a:ext cx="73962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 Annuity  formula (you do not have to memorise this !) -  useful in Exc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fafd00"/>
                </a:solidFill>
                <a:latin typeface="Arial"/>
              </a:rPr>
              <a:t>P  =   ANNUITY + 100 / (1+y)</a:t>
            </a:r>
            <a:r>
              <a:rPr b="0" lang="en-GB" sz="2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re “ANNUITY” =   ( C / y )  [ 1 - 1 / (1+y) 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For “Perpetuity” / “Consol” / “Undated stocks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      P = C /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0" y="3240"/>
            <a:ext cx="838080" cy="6854760"/>
            <a:chOff x="0" y="3240"/>
            <a:chExt cx="838080" cy="6854760"/>
          </a:xfrm>
        </p:grpSpPr>
        <p:sp>
          <p:nvSpPr>
            <p:cNvPr id="1038" name=""/>
            <p:cNvSpPr/>
            <p:nvPr/>
          </p:nvSpPr>
          <p:spPr>
            <a:xfrm>
              <a:off x="0" y="324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58680" y="166680"/>
              <a:ext cx="117360" cy="6550200"/>
              <a:chOff x="58680" y="166680"/>
              <a:chExt cx="117360" cy="6550200"/>
            </a:xfrm>
          </p:grpSpPr>
          <p:sp>
            <p:nvSpPr>
              <p:cNvPr id="1040" name=""/>
              <p:cNvSpPr/>
              <p:nvPr/>
            </p:nvSpPr>
            <p:spPr>
              <a:xfrm>
                <a:off x="58680" y="17575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8680" y="1987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8680" y="22147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8680" y="24447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8680" y="267516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8680" y="29019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680" y="3132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8680" y="336240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8680" y="35895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8680" y="3819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8680" y="40496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8680" y="42753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8680" y="4505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8680" y="47325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680" y="4962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8680" y="51926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8680" y="5419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8680" y="56498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8680" y="5880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8680" y="61070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8680" y="63374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8680" y="65660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8680" y="16668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8680" y="3938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8680" y="62388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8680" y="8524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8680" y="10796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8680" y="130968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8680" y="15400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9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9BC8-2032-476F-9B70-706F311B2B2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ACD066-9213-4ED6-8483-414345B8DEDE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0EE0E9-58B8-4E4A-8162-C6FA674983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297180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pyright K. Cuthbertson and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0" y="759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14040" y="243828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cing of Coupon Bond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using Spot Rates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07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07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7" name=""/>
          <p:cNvSpPr/>
          <p:nvPr/>
        </p:nvSpPr>
        <p:spPr>
          <a:xfrm>
            <a:off x="914400" y="3049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 txBox="1"/>
          <p:nvPr/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CED2797-6D8B-42F4-B662-1AA60088A7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297180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pyright K. Cuthbertson and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0" y="759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305840" cy="61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ing Using Spot Rate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1143000" y="5181480"/>
                <a:ext cx="68864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914400" y="1066680"/>
            <a:ext cx="75438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ove we calculated the YTM, from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bser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rket price P.  But how do we calculate this ‘fair’ (no arbitrage) price P for the bon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orrect method of pricing a bond is to discount us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pot yield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because the coupons can be “stripped” and sold separately, which could lead to riskless arbitrage profits, unless is P is determ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1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1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7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E4EB7D43-C4CB-4DB9-83CE-90A5D5FB34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97180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pyright K. Cuthbertson and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0" y="759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05840" cy="61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ing Using Spot Rate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3" name=""/>
          <p:cNvSpPr/>
          <p:nvPr/>
        </p:nvSpPr>
        <p:spPr>
          <a:xfrm>
            <a:off x="990720" y="1143000"/>
            <a:ext cx="7467480" cy="51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pose interbank rates for 1-year and 2-year deposits (ie. Spot yields)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= 5%               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6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pose there is a 2-year, 10% coupon bond in the market (par = 100).  What is the “fair price of this bon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$1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+ M = $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5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5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6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D462CB2-E383-49F1-A9A5-6A928C06B6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97180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pyright K. Cuthbertson and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0" y="759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62120" y="0"/>
            <a:ext cx="7367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ING and STRIPS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914400" y="914400"/>
            <a:ext cx="77486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st coupon sells for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5181480" y="990720"/>
                <a:ext cx="2743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4" name=""/>
          <p:cNvSpPr/>
          <p:nvPr/>
        </p:nvSpPr>
        <p:spPr>
          <a:xfrm>
            <a:off x="914400" y="2181240"/>
            <a:ext cx="777240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nd year cash sells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118120" y="2286000"/>
                <a:ext cx="3187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6" name=""/>
          <p:cNvSpPr/>
          <p:nvPr/>
        </p:nvSpPr>
        <p:spPr>
          <a:xfrm>
            <a:off x="914400" y="3352680"/>
            <a:ext cx="7848720" cy="3124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ket pr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COUPON PAYING B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( 2-yr bond) = 106, then you could buy it for 106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mediat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l off the coupons today, separately for 9.52+97.9 = 107.42.  This is a risk free arbitrage opportunity, giving a profit of 1.4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 the  2-yr coupon bon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must sell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 = 107.42 ( = “correct”, “fair”, no-arbitrage pri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0" y="3240"/>
            <a:ext cx="838080" cy="6854760"/>
            <a:chOff x="0" y="3240"/>
            <a:chExt cx="838080" cy="6854760"/>
          </a:xfrm>
        </p:grpSpPr>
        <p:sp>
          <p:nvSpPr>
            <p:cNvPr id="1198" name=""/>
            <p:cNvSpPr/>
            <p:nvPr/>
          </p:nvSpPr>
          <p:spPr>
            <a:xfrm>
              <a:off x="0" y="324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9" name=""/>
            <p:cNvGrpSpPr/>
            <p:nvPr/>
          </p:nvGrpSpPr>
          <p:grpSpPr>
            <a:xfrm>
              <a:off x="58680" y="166680"/>
              <a:ext cx="117360" cy="6550200"/>
              <a:chOff x="58680" y="166680"/>
              <a:chExt cx="117360" cy="6550200"/>
            </a:xfrm>
          </p:grpSpPr>
          <p:sp>
            <p:nvSpPr>
              <p:cNvPr id="1200" name=""/>
              <p:cNvSpPr/>
              <p:nvPr/>
            </p:nvSpPr>
            <p:spPr>
              <a:xfrm>
                <a:off x="58680" y="17575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8680" y="1987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8680" y="22147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8680" y="24447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8680" y="267516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8680" y="29019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8680" y="3132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8680" y="336240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8680" y="35895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8680" y="3819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680" y="40496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8680" y="42753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8680" y="4505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8680" y="47325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8680" y="4962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680" y="51926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8680" y="5419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680" y="56498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8680" y="5880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8680" y="61070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8680" y="63374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8680" y="65660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680" y="16668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8680" y="3938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680" y="62388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80" y="8524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680" y="10796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680" y="130968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8680" y="15400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9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12760" y="1371600"/>
            <a:ext cx="6919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ments:Spot and Derivative Markets, K.Cuthbertson and D.Nitzs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hapter 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ne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Business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1430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525600"/>
            <a:ext cx="38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6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6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33D79-1FD0-4A2A-BB2A-049590078BE7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E66D5383-5CC9-4974-8CB7-F83A9E8D75C3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6578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RICES AND YIELD: LOGICAL SEQUENCE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066320" y="1728360"/>
            <a:ext cx="7520040" cy="42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nowing all  the spot rates r, (from the yield curve) you can calculate the “correct ( or ‘fair’ or “no arbitrage”) price of the bond P.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nowing P, the F.T. then calculates the YTM using our previous IRR formula for y. 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3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23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5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B871-7785-4F1E-B7A9-72AEEEAF444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5CB0D34-5A62-4E6B-9046-8C51828CCB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 txBox="1"/>
          <p:nvPr/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D3D350C-956A-4ABD-AC30-3F784456A8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297180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pyright K. Cuthbertson and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0" y="759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914040" y="243828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rporate Bonds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127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7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27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3" name=""/>
          <p:cNvSpPr/>
          <p:nvPr/>
        </p:nvSpPr>
        <p:spPr>
          <a:xfrm>
            <a:off x="914400" y="3049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1121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orporate Bond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57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loating Rate Notes, FRN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Coupons payable vary with LIBOR and are therefore uncertain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2)Convertible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convert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y the hold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if she wishes) for a known number of shares/equity at specific times in the future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n as “equity kickers” - useful way of raising finance for ‘new’ firms. Yield is lower than on ‘plain vanilla’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0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1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9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D014-5F26-44DC-944B-04B31BD08DC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2537DE-324C-4BC2-8862-426D859FB2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41996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allable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redeemed (bought back) by the issuer at par value, after a certain date in future (e.g. after 5 years, on a 10 year bond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f interest rates (yields) fall in the future then P &gt; par value and the bond will be called and company may re-issue bonds at the new lower rate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able bonds have higher yields (when issued) than straights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4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4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4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title"/>
          </p:nvPr>
        </p:nvSpPr>
        <p:spPr>
          <a:xfrm>
            <a:off x="838080" y="-360"/>
            <a:ext cx="71121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orporate Bond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2DEC-16A0-4861-A83D-06BE2145BA1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C9FDA6-0A71-4BB9-827E-BD2B42FBE4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20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Foreign Bond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Yankee/Samurai/Bulldog/Matador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Yankee bond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Sony issues USD denominated bond in N.York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via a placement and subject to US listing requiremen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and it will probably be listed on NYSE to trade in secondary market, as well as an OTC secondary market between banks and securities houses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7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8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0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title"/>
          </p:nvPr>
        </p:nvSpPr>
        <p:spPr>
          <a:xfrm>
            <a:off x="838080" y="-25560"/>
            <a:ext cx="711216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orporate Bond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3860E-5B06-4065-98A8-199F9336DCB1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D5ECFB-5500-4A07-A5A8-64537C76E52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2004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5) Eurobond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d in ‘3rd country’, usually by private placement (via banks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e.g. Sony issues USD bonds in London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x regulation,, bearer bonds, tax paid gros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uch innovation: floaters, convertible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rants attached (and detachable) for option to purchase equity, more bonds, commodities (copper, oil) in the future, at a known price fixed today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ssued by corporations, governments and international orgs (W.Bank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41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41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41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6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title"/>
          </p:nvPr>
        </p:nvSpPr>
        <p:spPr>
          <a:xfrm>
            <a:off x="838080" y="-360"/>
            <a:ext cx="71121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orporate Bond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D1B-FBF1-405B-8A1C-5B79F65F773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CBC228-5FB1-4451-A376-607DA579B04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mple’ Pricing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of (Plain Vanilla)Corporate Bonds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5960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me as pricing Treasuries except (fixed) coupon payments are discounted using the (spot) yields on corporate bonds of a particular credit rating (eg. BBB)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Yield on BBB-rated bo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   =  r  + credit/default spread for BBB(eg. 250 bp)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redit spread reflects the fact that bonds are more likely to default in recessions than in booms (- this ‘market risk’ cannot be diversified away - see later lectures on CAPM and asset ‘betas’.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985680" y="3352680"/>
                <a:ext cx="7548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5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45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45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4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753A5-56AC-40D0-81BE-216FD101B9F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7477F5-D890-46B9-B7C6-2360907420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3566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DEFAULT SPREADS ON BOND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87" name=""/>
          <p:cNvSpPr/>
          <p:nvPr/>
        </p:nvSpPr>
        <p:spPr>
          <a:xfrm>
            <a:off x="1262160" y="3519360"/>
            <a:ext cx="6572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649520" y="2739960"/>
            <a:ext cx="177840" cy="77328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387520" y="2511360"/>
            <a:ext cx="249480" cy="100188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100320" y="2359080"/>
            <a:ext cx="250920" cy="115416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868560" y="2263680"/>
            <a:ext cx="266760" cy="125424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592520" y="2049480"/>
            <a:ext cx="354240" cy="147780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580000" y="1739880"/>
            <a:ext cx="368280" cy="174960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209680" y="3733920"/>
            <a:ext cx="6934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AAA   AA      A      BBB    Junk Bonds 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                    (“Crap. Corp”?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934320" y="2424240"/>
            <a:ext cx="20556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creasing                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95280" y="2362320"/>
            <a:ext cx="64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533840" y="1504800"/>
            <a:ext cx="60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472000" y="1228680"/>
            <a:ext cx="105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233440" y="2014560"/>
            <a:ext cx="60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691080" y="1809720"/>
            <a:ext cx="59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890800" y="1938240"/>
            <a:ext cx="5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066680" y="4572000"/>
            <a:ext cx="699156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e.g. In 1996 Russia made its first Eurobond issue since 1917,  of $1bn - at 345 bp over US Treasu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~ Junk Bonds (ie. below investment grade of B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62120" y="3718080"/>
            <a:ext cx="1295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T-Bond.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-76320" y="3240"/>
            <a:ext cx="838440" cy="6854760"/>
            <a:chOff x="-76320" y="3240"/>
            <a:chExt cx="838440" cy="6854760"/>
          </a:xfrm>
        </p:grpSpPr>
        <p:sp>
          <p:nvSpPr>
            <p:cNvPr id="1505" name=""/>
            <p:cNvSpPr/>
            <p:nvPr/>
          </p:nvSpPr>
          <p:spPr>
            <a:xfrm>
              <a:off x="-76320" y="3240"/>
              <a:ext cx="83844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6" name=""/>
            <p:cNvGrpSpPr/>
            <p:nvPr/>
          </p:nvGrpSpPr>
          <p:grpSpPr>
            <a:xfrm>
              <a:off x="-17280" y="166680"/>
              <a:ext cx="117360" cy="6550200"/>
              <a:chOff x="-17280" y="166680"/>
              <a:chExt cx="117360" cy="6550200"/>
            </a:xfrm>
          </p:grpSpPr>
          <p:sp>
            <p:nvSpPr>
              <p:cNvPr id="1507" name=""/>
              <p:cNvSpPr/>
              <p:nvPr/>
            </p:nvSpPr>
            <p:spPr>
              <a:xfrm>
                <a:off x="-17280" y="17575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-17280" y="1987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-17280" y="22147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-17280" y="24447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-17280" y="267516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-17280" y="29019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-17280" y="3132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-17280" y="336240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-17280" y="35895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-17280" y="3819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-17280" y="40496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-17280" y="42753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-17280" y="4505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-17280" y="47325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-17280" y="4962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-17280" y="51926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-17280" y="5419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-17280" y="56498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-17280" y="5880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-17280" y="61070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-17280" y="63374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-17280" y="65660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-17280" y="16668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-17280" y="3938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-17280" y="62388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-17280" y="8524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-17280" y="10796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-17280" y="130968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-17280" y="15400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6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500FA-7BA0-49A9-AF17-C03D8D88428D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C9871-FC12-41D1-8ED7-E07991FC420A}" type="datetime1">
              <a:rPr lang="en-US"/>
              <a:t>07/28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7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e could also replace the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promised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coupons with the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expected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upon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(Coupon) = (1-p) C + p ( z x C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= prob of default (can be extracted from observed credit spreads or from mortality rates of sample of BBB rated corporate bond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For BBB prob. default after 1,   5,    and 10 years i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%, 1.6% and 2.8%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53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54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54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1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mple’ Pricing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of (Plain Vanilla)Corporate Bonds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72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5294-7B65-46DC-B19C-C56DA53C97BE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FC5366-2E1D-4964-8BB4-2831281D50D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of Debt and Equity of the Firm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value of marketable debt: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(debt)  =  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x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B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e can then calculate the equity value of the firm a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(equity) =  ‘Enterprise DCF  -  V(debt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57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57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57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8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CFEE-066B-47FD-B654-BA44A427BF0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C105E-12E3-4797-928F-9C25FACD37D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319040" y="1447920"/>
            <a:ext cx="7367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ments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Plays in the Money Markets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9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0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99072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F8F4-FF98-47D9-9BC2-32D65BC69E1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0D42FE-F6B0-4E31-A324-69154B2E8ED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 txBox="1"/>
          <p:nvPr/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23E93149-436D-42CB-9399-93DAB8E4FB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297180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pyright K. Cuthbertson and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 txBox="1"/>
          <p:nvPr/>
        </p:nvSpPr>
        <p:spPr>
          <a:xfrm>
            <a:off x="0" y="759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914040" y="243828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nds and Duration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61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61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6" name=""/>
          <p:cNvSpPr/>
          <p:nvPr/>
        </p:nvSpPr>
        <p:spPr>
          <a:xfrm>
            <a:off x="914400" y="3049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8080" y="101520"/>
            <a:ext cx="77472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ds and Duration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1219320" y="1424160"/>
            <a:ext cx="7524720" cy="46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ration measures the ‘riskiness’ of a bond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more accurately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ond’s price response to a 1% change in the yield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o maturity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rudely:  High duration (e.g. D =10) implies  ‘high risk’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f yield falls by 1% (in a week) then bond price will rise by 10% (over the week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arg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“duration”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arg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rice respons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‘up’ or ‘down’) after a change in yield. 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650" name=""/>
          <p:cNvGrpSpPr/>
          <p:nvPr/>
        </p:nvGrpSpPr>
        <p:grpSpPr>
          <a:xfrm>
            <a:off x="0" y="3240"/>
            <a:ext cx="838080" cy="6854760"/>
            <a:chOff x="0" y="3240"/>
            <a:chExt cx="838080" cy="6854760"/>
          </a:xfrm>
        </p:grpSpPr>
        <p:sp>
          <p:nvSpPr>
            <p:cNvPr id="1651" name=""/>
            <p:cNvSpPr/>
            <p:nvPr/>
          </p:nvSpPr>
          <p:spPr>
            <a:xfrm>
              <a:off x="0" y="324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58680" y="166680"/>
              <a:ext cx="117360" cy="6550200"/>
              <a:chOff x="58680" y="166680"/>
              <a:chExt cx="117360" cy="6550200"/>
            </a:xfrm>
          </p:grpSpPr>
          <p:sp>
            <p:nvSpPr>
              <p:cNvPr id="1653" name=""/>
              <p:cNvSpPr/>
              <p:nvPr/>
            </p:nvSpPr>
            <p:spPr>
              <a:xfrm>
                <a:off x="58680" y="17575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8680" y="1987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8680" y="22147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8680" y="24447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8680" y="267516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8680" y="29019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8680" y="3132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8680" y="336240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8680" y="35895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8680" y="3819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8680" y="40496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8680" y="42753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8680" y="4505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8680" y="47325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8680" y="4962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8680" y="51926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8680" y="5419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8680" y="56498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8680" y="5880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8680" y="61070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8680" y="63374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8680" y="65660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8680" y="16668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8680" y="3938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8680" y="62388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8680" y="8524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8680" y="10796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8680" y="130968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8680" y="15400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2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F1E-3975-42F5-8533-917F9F6CAF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84F3FC-2744-4DB9-8A34-00CC88E1F4FE}" type="datetime1">
              <a:rPr lang="en-US"/>
              <a:t>07/28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/>
          </p:nvPr>
        </p:nvSpPr>
        <p:spPr>
          <a:xfrm>
            <a:off x="1294920" y="129528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 D = 10 “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ummarises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relationship between the (absolute) change in the yield an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rcent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nge in the price of the bond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peculation and Du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expect yields to fall then switch into “high duration” bond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igh du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nds (I.e. large D)  are bonds with :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ong maturit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or,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ow” coup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ates (payments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68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68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68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7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title"/>
          </p:nvPr>
        </p:nvSpPr>
        <p:spPr>
          <a:xfrm>
            <a:off x="838080" y="101520"/>
            <a:ext cx="77472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ds and Duration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B248A-0658-432F-B903-1C479930949B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049472-3EC5-4DDE-84B9-F05D00CD387C}" type="datetime1">
              <a:rPr lang="en-US"/>
              <a:t>07/28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838080" y="150840"/>
            <a:ext cx="6220080" cy="6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TION ( D = 5 say)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2133720" y="5310360"/>
                <a:ext cx="3268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D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2" name=""/>
          <p:cNvSpPr/>
          <p:nvPr/>
        </p:nvSpPr>
        <p:spPr>
          <a:xfrm>
            <a:off x="833400" y="914400"/>
            <a:ext cx="8310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MT Black"/>
              </a:rPr>
              <a:t>Measures (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 MT Black"/>
              </a:rPr>
              <a:t>approximate)</a:t>
            </a:r>
            <a:r>
              <a:rPr b="0" lang="en-GB" sz="2400" spc="-1" strike="noStrike">
                <a:solidFill>
                  <a:srgbClr val="ffffff"/>
                </a:solidFill>
                <a:latin typeface="Arial MT Black"/>
              </a:rPr>
              <a:t> price response to change in y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MT Black"/>
              </a:rPr>
              <a:t>‘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 MT Black"/>
              </a:rPr>
              <a:t>Percentage change in price’</a:t>
            </a:r>
            <a:r>
              <a:rPr b="0" lang="en-GB" sz="2400" spc="-1" strike="noStrike">
                <a:solidFill>
                  <a:srgbClr val="ffffff"/>
                </a:solidFill>
                <a:latin typeface="Arial MT Black"/>
              </a:rPr>
              <a:t>    =  - D x (absolute change in y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MT Black"/>
              </a:rPr>
              <a:t>e.g If D=5 then 1% fall in y from say 5% to 4% over the next day, will lead to a rise in the price of the bond by 5% (in a da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1600200" y="3697200"/>
                <a:ext cx="51134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4" name=""/>
          <p:cNvSpPr/>
          <p:nvPr/>
        </p:nvSpPr>
        <p:spPr>
          <a:xfrm>
            <a:off x="1523880" y="3124080"/>
            <a:ext cx="533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 is given as a percentage e.g. 5%, 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447920" y="4648320"/>
            <a:ext cx="6705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ct expression, here  y is a decimal  e.g. 0.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72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72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8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73B3-C1DB-49B6-AB8C-FCAEE6962E59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678622-A732-4A38-8CCD-A850E2A721C8}" type="datetime1">
              <a:rPr lang="en-US"/>
              <a:t>07/28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/>
          <p:nvPr/>
        </p:nvSpPr>
        <p:spPr>
          <a:xfrm>
            <a:off x="1295280" y="6019920"/>
            <a:ext cx="6782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7960" y="-2057400"/>
            <a:ext cx="103622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600200" y="3657600"/>
            <a:ext cx="3809880" cy="2362320"/>
          </a:xfrm>
          <a:prstGeom prst="line">
            <a:avLst/>
          </a:prstGeom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1294920" y="487692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024680" y="6033960"/>
            <a:ext cx="204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Y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914400" y="1371600"/>
            <a:ext cx="990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2099880" y="3352680"/>
            <a:ext cx="33480" cy="7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2133720" y="2819520"/>
            <a:ext cx="1828800" cy="9144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968640" y="1835280"/>
            <a:ext cx="4253040" cy="8240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tual price rise Z-B, exceeds  that given by duration, Z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105520" y="3581280"/>
            <a:ext cx="3873240" cy="8240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tual price fall is less than that given by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181480" y="54864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3580920" y="487692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5257440" y="4495680"/>
            <a:ext cx="213372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2133720" y="4038480"/>
            <a:ext cx="33120" cy="852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295280" y="1905120"/>
            <a:ext cx="0" cy="4114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581280" y="487692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352680" y="601992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876920" y="6019920"/>
            <a:ext cx="747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2133720" y="48769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905120" y="6019920"/>
            <a:ext cx="442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1371240" y="40384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838080" y="365760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838080" y="283356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272200" y="548640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5119560" y="496728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xity’ is ‘Good’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Negative Convexity’ is ‘bad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86" name=""/>
          <p:cNvSpPr/>
          <p:nvPr/>
        </p:nvSpPr>
        <p:spPr>
          <a:xfrm>
            <a:off x="5181480" y="4952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2362320" y="1295280"/>
            <a:ext cx="548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eater convexity’ = more curv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352680" y="4724280"/>
            <a:ext cx="457200" cy="304920"/>
          </a:xfrm>
          <a:prstGeom prst="star5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79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79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1" name=""/>
          <p:cNvSpPr/>
          <p:nvPr/>
        </p:nvSpPr>
        <p:spPr>
          <a:xfrm>
            <a:off x="914400" y="10666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4952880" y="5334120"/>
            <a:ext cx="457200" cy="30456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952880" y="5715000"/>
            <a:ext cx="457200" cy="30492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1981080" y="3276720"/>
            <a:ext cx="457200" cy="30456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1905120" y="3886200"/>
            <a:ext cx="457200" cy="30492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H="1">
            <a:off x="1294920" y="342900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62120" y="454032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5943B-3011-4CA3-9435-1B20EEF5B705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3BDAA-85E6-4665-A16E-DE897836E3A6}" type="datetime1">
              <a:rPr lang="en-US"/>
              <a:t>07/28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6892920" cy="6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DURATION ( D)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1066320" y="246708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Messy, not intuitive ! - do in EXCEL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D  = [1. PV(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 Rounded MT Bold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)  +  2. PV(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)+...       ... + n  PV(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 Rounded MT Bold"/>
              </a:rPr>
              <a:t>n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+M)] / P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where  PV(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 Rounded MT Bold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 ) = 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 Rounded MT Bold"/>
              </a:rPr>
              <a:t>i 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/ (1+y)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 Rounded MT Bold"/>
              </a:rPr>
              <a:t> i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Limitations of Duration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provides an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approxim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the price change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ictly it is only valid for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parallel shif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Yield Curve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ration falls as the bond approaches maturity, so you need to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“rebalance”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your bond portfolio if you want to maintain a given duration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1831" name=""/>
          <p:cNvSpPr/>
          <p:nvPr/>
        </p:nvSpPr>
        <p:spPr>
          <a:xfrm>
            <a:off x="1905120" y="205740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438280" y="167652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352680" y="167652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343400" y="1676520"/>
            <a:ext cx="3808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257800" y="1676520"/>
            <a:ext cx="3808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324480" y="762120"/>
            <a:ext cx="381240" cy="129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5638680" y="2057400"/>
            <a:ext cx="15264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791320" y="205740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14400" y="9144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ration of 5-year bond = 4.2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5638680" y="1295280"/>
            <a:ext cx="15264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84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84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3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719C-9112-4F35-8A9D-CBFB7C88B71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D08626-42A5-42A8-ADE9-0174F220CBA5}" type="datetime1">
              <a:rPr lang="en-US"/>
              <a:t>07/28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837720" y="126720"/>
            <a:ext cx="57150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Uses of Portfolio Duration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8249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Portfolio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 duration D</a:t>
            </a:r>
            <a:r>
              <a:rPr b="0" lang="en-GB" sz="2000" spc="-1" strike="noStrike" baseline="-25000">
                <a:solidFill>
                  <a:srgbClr val="ffff00"/>
                </a:solidFill>
                <a:latin typeface="Arial Rounded MT Bold"/>
              </a:rPr>
              <a:t>p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D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 Rounded MT Bold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=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w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 Rounded MT Bold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D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 Rounded MT Bold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where   w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 Rounded MT Bold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= proportions held in each bond-i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1)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speculation:  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If you expect interest rates (yields) to fall tomorrow then sell your “low duration” bonds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 Rounded MT Bold"/>
              </a:rPr>
              <a:t>use the funds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to move into “high duration” bonds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.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Hence you increase the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overall duration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 of your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portfolio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 of bonds.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87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87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88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9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7F07-9249-4B57-BE33-C5E30C3DE739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694A34-41BE-4C4E-8935-15E55605659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Rounded MT Bold"/>
              </a:rPr>
              <a:t>2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)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Hedging (“Immunisation”)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Pension fund has payment of $10m in 5 years time (with PV of 9m). 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To be certain of meeting this $10m payment,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even if interest rates rise or fall over the next five years,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 the pension fund should: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Buy $9m bonds in such  combinations that (portfolio) duration D</a:t>
            </a:r>
            <a:r>
              <a:rPr b="0" lang="en-GB" sz="2000" spc="-1" strike="noStrike" baseline="-25000">
                <a:solidFill>
                  <a:srgbClr val="ffff00"/>
                </a:solidFill>
                <a:latin typeface="Arial Rounded MT Bold"/>
              </a:rPr>
              <a:t>p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 = 5.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This is a statement not an “explanation” !</a:t>
            </a:r>
            <a:r>
              <a:rPr b="0" lang="en-GB" sz="2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This allows the pension fund to earn coupon payments while hedging its future pension payment at t+5 and hence being able to meet this payout of  $10m at t+5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91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91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4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title"/>
          </p:nvPr>
        </p:nvSpPr>
        <p:spPr>
          <a:xfrm>
            <a:off x="837720" y="126720"/>
            <a:ext cx="57150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Uses of Portfolio Duration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20A0-E91E-4229-8A59-5CBA073A73F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083B35-34E8-4762-9562-10A7C7ED092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1092240" y="256500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7268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LECTURE ENDS HERE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SELF STUDY SLIDES FOLLOW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94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95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95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1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2B1E-DCD9-4CCD-B201-E9D26853C55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F3B19-11C2-4710-9B96-2C6DA16B7D8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/>
          </p:nvPr>
        </p:nvSpPr>
        <p:spPr>
          <a:xfrm>
            <a:off x="1242720" y="2361960"/>
            <a:ext cx="706284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INSTITUTIONAL DETAILS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98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98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98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6" name=""/>
          <p:cNvSpPr/>
          <p:nvPr/>
        </p:nvSpPr>
        <p:spPr>
          <a:xfrm>
            <a:off x="91440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C554-1848-41A0-AF1B-F295AA620344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89F93-14C8-4791-B45B-DF7044B2BF3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9600" y="152280"/>
            <a:ext cx="7365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oney Market Instrument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7291440" cy="56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ort -ter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orrowing and Lending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count Instrumen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- Bill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~ e.g. Buy T-bill = lend to the government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ommercial Bill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~ lend to companies (for financing inventories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ankers’ Acceptanc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bank lends to company, based on its future sales receipts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Yield Instrumen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nk deposits, interbank borrowing (LIBOR / LIBID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rtificates of Deposit (CDs), Euro-currencies.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3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3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1066680" y="6094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6629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9896-C769-4D00-9282-FB3D835C30C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EA344-5CCE-45DA-80D3-4A30F6B72C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8" name=""/>
          <p:cNvGraphicFramePr/>
          <p:nvPr/>
        </p:nvGraphicFramePr>
        <p:xfrm>
          <a:off x="1143000" y="609480"/>
          <a:ext cx="7556400" cy="570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09480"/>
                    <a:ext cx="755640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02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02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2" name=""/>
          <p:cNvSpPr/>
          <p:nvPr/>
        </p:nvSpPr>
        <p:spPr>
          <a:xfrm>
            <a:off x="1219320" y="175248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846A-7936-423B-AD02-0C9313DA21BF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F8CEA6-54F9-42F7-A833-DE0B8618FB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/>
          </p:nvPr>
        </p:nvSpPr>
        <p:spPr>
          <a:xfrm>
            <a:off x="1219320" y="1371240"/>
            <a:ext cx="7748640" cy="42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ce quotes are good for up to £10m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reads o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pri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quotes are about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/32% (= 0.0312 of 1%) for shorts (&lt; 5 yrs maturity)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p to  1/8% (=0.125 of 1%)for longer maturities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ces are now quoted in decimals (eg.£102.17)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ilts can now be used as collateral in repos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New issue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inly via auction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title"/>
          </p:nvPr>
        </p:nvSpPr>
        <p:spPr>
          <a:xfrm>
            <a:off x="838080" y="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 Gilts :Price Quotes and “Liquidity”  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205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05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05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8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F3E9-1602-443B-A4F3-6E5967A2352F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168D1-23A4-46A6-BDE1-C42201A7CF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0010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AULT RISK ON CORPORATE BOND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593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lected in quoted yields on bond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e.g. lower credit rating implies higher yield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 corporate bonds rated by agencies (Moody’s, Standard and Poor’s) according to financial strength of company (over the complete economic cycle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vereign debt is also rated (eg. Mexico, Russia) and so are Municipal bonds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209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09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09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4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D4E7-C4FF-406A-B8E6-5F6BCFEAECB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4004DE-716A-43B7-BF4A-D0AC1B7D6923}" type="datetime1">
              <a:rPr lang="en-US"/>
              <a:t>07/28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82316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 Price and Dirty Price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1294920" y="1500120"/>
            <a:ext cx="7448760" cy="39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ean price” (as in the FT/WSJ) excludes accrued interest AI or rebate interest RI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F.T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d”= ‘ex-dividend,  implies purchase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ill no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receive next coupon payment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 = clean price = f ( al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ut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’s)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e clean price ‘includes’ all  future coupons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128" name=""/>
          <p:cNvSpPr/>
          <p:nvPr/>
        </p:nvSpPr>
        <p:spPr>
          <a:xfrm>
            <a:off x="1600200" y="28195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438280" y="28195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13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13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2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59DD-0E11-4B14-8015-69997925BB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B09DA-2FFC-4236-AB31-DE01C47F1706}" type="datetime1">
              <a:rPr lang="en-US"/>
              <a:t>07/28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101520"/>
            <a:ext cx="78994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 Price and Dirty Price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1142640" y="2261880"/>
            <a:ext cx="7558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Cum Div: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lies that at B the purchaser will receive 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Hence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the sell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must be compensated for the loss of AI over the period A-B , hence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Dirty (invoice) price = P</a:t>
            </a:r>
            <a:r>
              <a:rPr b="0" i="1" lang="en-GB" sz="1800" spc="-1" strike="noStrike" baseline="-25000">
                <a:solidFill>
                  <a:srgbClr val="ffff00"/>
                </a:solidFill>
                <a:latin typeface="Arial"/>
              </a:rPr>
              <a:t>clea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 + AI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where   AI = (C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/2)x( no. of days A-B /182)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“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xd”: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urchaser will not receive next coupon payment 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Hence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buy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must be compensated for this, since clean price P=f(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,..) “includes” the next coupon payment.  Hence: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Dirty(invoice) Price = P</a:t>
            </a:r>
            <a:r>
              <a:rPr b="0" i="1" lang="en-GB" sz="1800" spc="-1" strike="noStrike" baseline="-25000">
                <a:solidFill>
                  <a:srgbClr val="ffff00"/>
                </a:solidFill>
                <a:latin typeface="Arial"/>
              </a:rPr>
              <a:t>clean</a:t>
            </a:r>
            <a:r>
              <a:rPr b="0" i="1" lang="en-GB" sz="18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- Rebate Interest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where RI = (C/2) x (no. of days B-Z/182)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166" name=""/>
          <p:cNvSpPr/>
          <p:nvPr/>
        </p:nvSpPr>
        <p:spPr>
          <a:xfrm>
            <a:off x="1600200" y="1447920"/>
            <a:ext cx="6248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600200" y="14479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438280" y="14479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4724280" y="14479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7848720" y="14479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7848720" y="1447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4572000" y="17524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620120" y="17524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295280" y="1676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209680" y="1676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447920" y="990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209680" y="990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4495680" y="990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600200" y="99072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657600" y="99072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2666880" y="762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18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18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4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76C7-F6E2-461D-A019-1D28DECA3521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75E1B9-ECBF-48C3-8F25-B01FC7EC7FD3}" type="datetime1">
              <a:rPr lang="en-US"/>
              <a:t>07/28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6" name=""/>
          <p:cNvGraphicFramePr/>
          <p:nvPr/>
        </p:nvGraphicFramePr>
        <p:xfrm>
          <a:off x="838080" y="1828800"/>
          <a:ext cx="736776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367760" cy="4572000"/>
                  </a:xfrm>
                  <a:prstGeom prst="rect">
                    <a:avLst/>
                  </a:prstGeom>
                  <a:ln w="255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8" name=""/>
          <p:cNvSpPr/>
          <p:nvPr/>
        </p:nvSpPr>
        <p:spPr>
          <a:xfrm>
            <a:off x="914400" y="169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Assessment:Price -YTM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914400" y="961920"/>
            <a:ext cx="8229600" cy="7038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iven the coupon and market price, can you explain th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qualitative “pattern’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the YTM’s in the final column?   (Note: Par =  M = 10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0" y="3240"/>
            <a:ext cx="838080" cy="6854760"/>
            <a:chOff x="0" y="3240"/>
            <a:chExt cx="838080" cy="6854760"/>
          </a:xfrm>
        </p:grpSpPr>
        <p:sp>
          <p:nvSpPr>
            <p:cNvPr id="2221" name=""/>
            <p:cNvSpPr/>
            <p:nvPr/>
          </p:nvSpPr>
          <p:spPr>
            <a:xfrm>
              <a:off x="0" y="324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58680" y="166680"/>
              <a:ext cx="117360" cy="6550200"/>
              <a:chOff x="58680" y="166680"/>
              <a:chExt cx="117360" cy="6550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58680" y="17575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8680" y="1987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8680" y="22147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8680" y="24447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58680" y="267516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8680" y="29019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8680" y="3132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8680" y="336240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8680" y="35895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8680" y="3819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8680" y="40496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8680" y="42753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8680" y="4505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8680" y="47325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58680" y="4962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8680" y="51926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58680" y="5419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58680" y="56498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58680" y="5880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8680" y="61070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8680" y="63374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8680" y="65660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8680" y="16668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8680" y="3938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58680" y="62388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8680" y="8524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8680" y="10796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8680" y="130968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8680" y="15400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2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5CB6-142D-4747-A841-CF6F0A28F947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D16FD0-42EA-41DA-9CC2-21E418C3766F}" type="datetime1">
              <a:rPr lang="en-US"/>
              <a:t>07/28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5042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ing Period Return (Yield)</a:t>
            </a:r>
            <a:endParaRPr b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2038320" y="3124080"/>
                <a:ext cx="57340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ected $ capital gain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oupon payments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terest on interest</m:t>
                            </m:r>
                            <m:r>
                              <m:t xml:space="preserve">)</m:t>
                            </m:r>
                          </m:num>
                          <m:den/>
                        </m:f>
                      </m:e>
                    </m:eqArr>
                    <m:eqAr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itial purchase price of the bond</m:t>
                            </m:r>
                            <m:r>
                              <m:t xml:space="preserve">)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1219320" y="5715000"/>
            <a:ext cx="472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1066680" y="57150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867280" y="57150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 flipV="1">
            <a:off x="1905120" y="5105160"/>
            <a:ext cx="0" cy="609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 flipV="1">
            <a:off x="3276720" y="5105160"/>
            <a:ext cx="0" cy="609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4648320" y="5105160"/>
            <a:ext cx="0" cy="609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V="1">
            <a:off x="5943600" y="5105160"/>
            <a:ext cx="0" cy="609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019920" y="5715000"/>
            <a:ext cx="266688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00200" y="457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048120" y="4572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343400" y="457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5715000" y="457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981080" y="457200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505320" y="4952880"/>
            <a:ext cx="2514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800600" y="480060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6248520" y="4572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on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1295280" y="1279440"/>
            <a:ext cx="76964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 that if you intend to sell the bo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efore maturity (eg after 3 yea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n the “expected return” on the bond is known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“holding period yield” HPY 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762120" y="3429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PY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27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27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6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 flipH="1" flipV="1">
            <a:off x="6019560" y="457164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 flipH="1">
            <a:off x="6095520" y="4876920"/>
            <a:ext cx="228600" cy="75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 flipV="1">
            <a:off x="1219320" y="5562360"/>
            <a:ext cx="0" cy="228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FE77-F04F-47D5-8A92-0DD03F401ED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82316-4E87-4936-962D-E942891121AD}" type="datetime1">
              <a:rPr lang="en-US"/>
              <a:t>07/28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1066320" y="2743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LIDES END HERE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31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31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44" name=""/>
          <p:cNvSpPr/>
          <p:nvPr/>
        </p:nvSpPr>
        <p:spPr>
          <a:xfrm>
            <a:off x="914400" y="3808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491F-0E37-4577-99BA-FB538E0AED4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9E302-425A-4423-B039-52F184309279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213680" cy="9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Who Plays in the Money Markets ?</a:t>
            </a:r>
            <a:endParaRPr b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267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Interbank loan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ank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charges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LIBOR to  another bank (or quality corporate customer) who borrows from  it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anks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pays LIBID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for deposits placed with it.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LIBOR  &gt;  LIBID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LIBOR is  cost of funds to the bank for “on-lending”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ls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IBOR, NYBOR, SIBOR, EURIBOR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Key reference rate (eg. for Swaps, FRN’s,  FRA’s)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7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7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4DC5-9B48-4099-BA47-4E04E28511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661836-C886-43C1-9E90-0220EDF825F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472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Who plays in the Money Markets ?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291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 Rounded MT Bold"/>
              </a:rPr>
              <a:t>FOREX Speculator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Will place “hot money” in money market asse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 Rounded MT Bold"/>
              </a:rPr>
              <a:t>Corporate Treasurer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Raise large amounts of “cash” in the commercial paper market in U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Surplus funds invested in money market asse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 Rounded MT Bold"/>
              </a:rPr>
              <a:t>Central Bank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To implement monetary policy via “open market operations” using repo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0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0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795-D62F-48E2-BFB5-413A8660E4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CAFF8-E5B5-4ED4-81D1-031E0BF9113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040" y="2463840"/>
            <a:ext cx="774684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ield or ‘Add on’ Instrumen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unt Instruments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4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4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F584-80FB-4252-BED0-E9B78F657D9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6EF977-EA37-424E-87D1-8D2992D788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040" y="25560"/>
            <a:ext cx="774684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ntions in the Money Market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443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sets are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quote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 a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iscou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yield ba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ple annual rates are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quoted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ay count conven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or “grossing up” to annual rates differs between markets and types of asset.(UK :  “actual / 365 “ ,  US  “actual/ 360”  )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is ultimately important is “what you paid”, “what you got at the end” and the intervening time period. Then you can work out your “Return”  in a manner that is “reasonable”  (eg. Using simple or compound “interest” ).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7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8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C24-1B97-4CA6-806A-AE03A319C2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13C067-148C-454B-BCB8-A6AC570752E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9T09:23:12Z</dcterms:created>
  <dc:creator>Dept. of Economics</dc:creator>
  <dc:description/>
  <dc:language>en-US</dc:language>
  <cp:lastModifiedBy>Keith Cuthbertson</cp:lastModifiedBy>
  <cp:lastPrinted>2001-09-26T17:49:33Z</cp:lastPrinted>
  <dcterms:modified xsi:type="dcterms:W3CDTF">2001-10-03T12:38:03Z</dcterms:modified>
  <cp:revision>114</cp:revision>
  <dc:subject/>
  <dc:title>ISSUES IN FINANCE</dc:title>
</cp:coreProperties>
</file>